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E616E-4165-47F6-9C05-90881B1A0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DF5FE-0047-4FA7-9A95-C7BAEF923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05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9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05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9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162000"/>
            <a:ext cx="829800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4-</a:t>
            </a:r>
            <a:fld id="{2569F642-FABF-4595-B6D8-2F58B20EA7D0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4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st Alloc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 Alloc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069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allocation is the process of assigning indirect costs to cost obje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spcBef>
                <a:spcPts val="2999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Four Purposes of Cost Alloc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 provide information for economic decis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 motivate managers and employe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 justify costs or compute reimburse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 measure income and assets for repor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 external part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530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29 - 53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162000"/>
            <a:ext cx="87552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riteria for Guiding Cost Allocation Decisi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79930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use and effe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based on the variable or variables that cause cost to be incurr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enefits receiv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costs among the beneficiaries in proportion to the benefits each receiv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airness or equ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costs in such a manner as to be “fair” or “reasonable” for both part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bility to bea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costs based on who can best absorb th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30 - 53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hods of Cost Alloc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ngle 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costs to cost objects using a single 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ate = manufacturing overhead costs / labour hou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ual-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parate costs into cost variable and fixed cost poo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fixed costs as lump sums based on long-term usa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variable costs based on a single variable cost 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versus actual alloc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ost firms allocate at budgeted rates based on actual usa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36 - 53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ocating Support Department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8440" y="1142640"/>
            <a:ext cx="84502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approac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support costs directly to operating depart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ep-down approac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ognize some of the work support departments do for each oth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support costs to other support departments and operating departments in a pre-determined ord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iprocal approac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ognize all of the work support departments do for each oth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support costs among all departments using their servi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39 - 54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rect Approach to Cost Alloc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324080"/>
            <a:ext cx="3192480" cy="5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Support Departments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57800" y="1324080"/>
            <a:ext cx="3657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Production Departments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10080" y="2057400"/>
            <a:ext cx="3353040" cy="1647720"/>
          </a:xfrm>
          <a:prstGeom prst="rect">
            <a:avLst/>
          </a:prstGeom>
          <a:solidFill>
            <a:srgbClr val="00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chinery Departm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4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10080" y="4448160"/>
            <a:ext cx="3353040" cy="1647720"/>
          </a:xfrm>
          <a:prstGeom prst="rect">
            <a:avLst/>
          </a:prstGeom>
          <a:solidFill>
            <a:srgbClr val="00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ssembly Departm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2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2009880"/>
            <a:ext cx="2209680" cy="157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lant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inten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6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4524480"/>
            <a:ext cx="2209680" cy="157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formation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116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54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743200" y="2590920"/>
            <a:ext cx="2666880" cy="2361960"/>
            <a:chOff x="2743200" y="2590920"/>
            <a:chExt cx="2666880" cy="2361960"/>
          </a:xfrm>
        </p:grpSpPr>
        <p:sp>
          <p:nvSpPr>
            <p:cNvPr id="70" name=""/>
            <p:cNvSpPr/>
            <p:nvPr/>
          </p:nvSpPr>
          <p:spPr>
            <a:xfrm>
              <a:off x="2743200" y="2590920"/>
              <a:ext cx="2666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743200" y="3048120"/>
              <a:ext cx="2666880" cy="19047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971800" y="2619360"/>
              <a:ext cx="175248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25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375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743200" y="3200400"/>
            <a:ext cx="2666880" cy="2362320"/>
            <a:chOff x="2743200" y="3200400"/>
            <a:chExt cx="2666880" cy="2362320"/>
          </a:xfrm>
        </p:grpSpPr>
        <p:sp>
          <p:nvSpPr>
            <p:cNvPr id="74" name=""/>
            <p:cNvSpPr/>
            <p:nvPr/>
          </p:nvSpPr>
          <p:spPr>
            <a:xfrm>
              <a:off x="2743200" y="5562720"/>
              <a:ext cx="2666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2743200" y="3200400"/>
              <a:ext cx="2590920" cy="1828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95480" y="4676760"/>
              <a:ext cx="175284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03,111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2,889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5410080" y="2009880"/>
            <a:ext cx="3733920" cy="4057560"/>
            <a:chOff x="5410080" y="2009880"/>
            <a:chExt cx="3733920" cy="4057560"/>
          </a:xfrm>
        </p:grpSpPr>
        <p:sp>
          <p:nvSpPr>
            <p:cNvPr id="78" name=""/>
            <p:cNvSpPr/>
            <p:nvPr/>
          </p:nvSpPr>
          <p:spPr>
            <a:xfrm>
              <a:off x="5410080" y="2009880"/>
              <a:ext cx="3733920" cy="16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llocated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28,111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Total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728,111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410080" y="4419720"/>
              <a:ext cx="3733920" cy="16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llocated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87,889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Total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587,889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696080" y="3200400"/>
              <a:ext cx="83844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96080" y="5638680"/>
              <a:ext cx="83844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410080" y="4448160"/>
            <a:ext cx="3353040" cy="1647720"/>
          </a:xfrm>
          <a:prstGeom prst="rect">
            <a:avLst/>
          </a:prstGeom>
          <a:solidFill>
            <a:srgbClr val="00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ssembly Departm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2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410080" y="2009880"/>
            <a:ext cx="3353040" cy="1647720"/>
          </a:xfrm>
          <a:prstGeom prst="rect">
            <a:avLst/>
          </a:prstGeom>
          <a:solidFill>
            <a:srgbClr val="00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chinery Departm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4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ep-down Approach to Cost Alloc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320" y="1324080"/>
            <a:ext cx="3192480" cy="5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Support Departments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57800" y="1324080"/>
            <a:ext cx="3657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Production Departments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2009880"/>
            <a:ext cx="2209680" cy="157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lant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inten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6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4114800"/>
            <a:ext cx="2209680" cy="213372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ctr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formation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ctr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116,000 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41 - 54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533520" y="2590920"/>
            <a:ext cx="4876560" cy="3657600"/>
            <a:chOff x="533520" y="2590920"/>
            <a:chExt cx="4876560" cy="3657600"/>
          </a:xfrm>
        </p:grpSpPr>
        <p:sp>
          <p:nvSpPr>
            <p:cNvPr id="91" name=""/>
            <p:cNvSpPr/>
            <p:nvPr/>
          </p:nvSpPr>
          <p:spPr>
            <a:xfrm>
              <a:off x="533520" y="4114800"/>
              <a:ext cx="220968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                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llocated cost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2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743200" y="2590920"/>
              <a:ext cx="2666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43200" y="3048120"/>
              <a:ext cx="2666880" cy="19047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71800" y="2619360"/>
              <a:ext cx="175248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8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30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8280" y="3581280"/>
              <a:ext cx="0" cy="533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133720" y="3657600"/>
              <a:ext cx="17524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2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743200" y="3200400"/>
            <a:ext cx="2666880" cy="2362320"/>
            <a:chOff x="2743200" y="3200400"/>
            <a:chExt cx="2666880" cy="2362320"/>
          </a:xfrm>
        </p:grpSpPr>
        <p:sp>
          <p:nvSpPr>
            <p:cNvPr id="98" name=""/>
            <p:cNvSpPr/>
            <p:nvPr/>
          </p:nvSpPr>
          <p:spPr>
            <a:xfrm>
              <a:off x="2743200" y="5562720"/>
              <a:ext cx="2666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2743200" y="3200400"/>
              <a:ext cx="2590920" cy="1828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895480" y="4676760"/>
              <a:ext cx="175284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09,778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6,222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410080" y="1962000"/>
            <a:ext cx="3505320" cy="4133880"/>
            <a:chOff x="5410080" y="1962000"/>
            <a:chExt cx="3505320" cy="4133880"/>
          </a:xfrm>
        </p:grpSpPr>
        <p:sp>
          <p:nvSpPr>
            <p:cNvPr id="102" name=""/>
            <p:cNvSpPr/>
            <p:nvPr/>
          </p:nvSpPr>
          <p:spPr>
            <a:xfrm>
              <a:off x="5410080" y="4448160"/>
              <a:ext cx="3505320" cy="16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7000"/>
            </a:bodyPr>
            <a:p>
              <a:pPr marL="332640" indent="-33264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llocated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26,222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Total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526,222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96080" y="3152880"/>
              <a:ext cx="83844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696080" y="5667480"/>
              <a:ext cx="83844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410080" y="1962000"/>
              <a:ext cx="3505320" cy="16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7000"/>
            </a:bodyPr>
            <a:p>
              <a:pPr marL="332640" indent="-33264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llocated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89,778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Total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789,778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410080" y="2085840"/>
            <a:ext cx="3353040" cy="1648080"/>
          </a:xfrm>
          <a:prstGeom prst="rect">
            <a:avLst/>
          </a:prstGeom>
          <a:solidFill>
            <a:srgbClr val="00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chinery Departm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4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10080" y="4448160"/>
            <a:ext cx="3353040" cy="1647720"/>
          </a:xfrm>
          <a:prstGeom prst="rect">
            <a:avLst/>
          </a:prstGeom>
          <a:solidFill>
            <a:srgbClr val="00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ssembly Departm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2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ciprocal Approach to Cost Alloc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320" y="1324080"/>
            <a:ext cx="3192480" cy="5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Support Departments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57800" y="1324080"/>
            <a:ext cx="3657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Production Departments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1857240"/>
            <a:ext cx="2514600" cy="157176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lant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inten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Direct costs   $600,000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4343400"/>
            <a:ext cx="2514600" cy="190512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formation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Direct costs  $116,000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42 - 54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743200" y="2590920"/>
            <a:ext cx="2666880" cy="2361960"/>
            <a:chOff x="2743200" y="2590920"/>
            <a:chExt cx="2666880" cy="2361960"/>
          </a:xfrm>
        </p:grpSpPr>
        <p:sp>
          <p:nvSpPr>
            <p:cNvPr id="115" name=""/>
            <p:cNvSpPr/>
            <p:nvPr/>
          </p:nvSpPr>
          <p:spPr>
            <a:xfrm>
              <a:off x="2743200" y="2590920"/>
              <a:ext cx="2666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43200" y="3048120"/>
              <a:ext cx="2666880" cy="19047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971800" y="2619360"/>
              <a:ext cx="175248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87,225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312,041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2743200" y="3200400"/>
            <a:ext cx="2666880" cy="2362320"/>
            <a:chOff x="2743200" y="3200400"/>
            <a:chExt cx="2666880" cy="2362320"/>
          </a:xfrm>
        </p:grpSpPr>
        <p:sp>
          <p:nvSpPr>
            <p:cNvPr id="119" name=""/>
            <p:cNvSpPr/>
            <p:nvPr/>
          </p:nvSpPr>
          <p:spPr>
            <a:xfrm>
              <a:off x="2743200" y="5562720"/>
              <a:ext cx="2666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2743200" y="3200400"/>
              <a:ext cx="2590920" cy="1828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895480" y="4676760"/>
              <a:ext cx="175284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92,652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4,082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76320" y="1828800"/>
            <a:ext cx="3809880" cy="4419720"/>
            <a:chOff x="76320" y="1828800"/>
            <a:chExt cx="3809880" cy="4419720"/>
          </a:xfrm>
        </p:grpSpPr>
        <p:sp>
          <p:nvSpPr>
            <p:cNvPr id="123" name=""/>
            <p:cNvSpPr/>
            <p:nvPr/>
          </p:nvSpPr>
          <p:spPr>
            <a:xfrm>
              <a:off x="2438280" y="3429000"/>
              <a:ext cx="0" cy="9144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133720" y="3762360"/>
              <a:ext cx="17524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24,816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09480" y="3429000"/>
              <a:ext cx="0" cy="9144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28600" y="3762360"/>
              <a:ext cx="17524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4,082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320" y="1828800"/>
              <a:ext cx="281916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Allocated costs $24,082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6320" y="4343400"/>
              <a:ext cx="266688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+ Allocated cost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124,816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410080" y="2009880"/>
            <a:ext cx="3733920" cy="4086000"/>
            <a:chOff x="5410080" y="2009880"/>
            <a:chExt cx="3733920" cy="4086000"/>
          </a:xfrm>
        </p:grpSpPr>
        <p:sp>
          <p:nvSpPr>
            <p:cNvPr id="130" name=""/>
            <p:cNvSpPr/>
            <p:nvPr/>
          </p:nvSpPr>
          <p:spPr>
            <a:xfrm>
              <a:off x="5410080" y="2009880"/>
              <a:ext cx="3733920" cy="16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llocated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79,877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Total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779,877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410080" y="4448160"/>
              <a:ext cx="3733920" cy="16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llocated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36,123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Total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536,123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620120" y="5638680"/>
              <a:ext cx="9144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20120" y="3200400"/>
              <a:ext cx="9144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ocation of Common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45 - 54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mon costs are costs of operating a facility, operation, activity area, or like cost object that is shared by two or more us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nd-Alone Cost Allocation Metho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common costs on the basis of each user’s percentage of the total of the individual stand-alone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remental Cost Allocation Metho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common costs in order beginning with the primary user and then proceeding to secondary (incremental) us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4T01:31:04Z</dcterms:created>
  <dc:creator>User</dc:creator>
  <dc:description/>
  <dc:language>en-US</dc:language>
  <cp:lastModifiedBy>John Moore</cp:lastModifiedBy>
  <cp:lastPrinted>1999-06-04T23:13:26Z</cp:lastPrinted>
  <dcterms:modified xsi:type="dcterms:W3CDTF">2003-03-22T13:19:23Z</dcterms:modified>
  <cp:revision>16</cp:revision>
  <dc:subject/>
  <dc:title>Cost Allocation</dc:title>
</cp:coreProperties>
</file>